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53275-BCFE-4D2F-BE46-99D67E180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0466D-237F-4C5E-8D3D-496AEC33A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6F021-08B7-484F-9018-0BEDDB5EC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2117E-66A0-440F-8D7B-89B835450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B86BA-F8C6-48F6-ADAA-8D096D770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4DC11-DB8D-40C5-87D4-F7CCAAEB2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32B13-DDA6-416F-BFC3-6ACB83240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EF3E5-BE14-490E-B576-3F6E799B1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DFB19-029A-4AE2-BBFE-F28AF9103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582A5-366F-43E5-962E-4A4E75399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D94CC-1772-480C-8B21-C70713458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2AD5C-2C6B-438A-9873-627E868A9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9DB8E-F142-4149-8DC7-1C4C4AB5BB1B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-physical and socio-economic benchmark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How?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takeholder survey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ocioeconomic and biophysical bench marks from RC1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field day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peer to peer visi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demonstration sites on selected farmers land and farming land scap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Audio and video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posters, .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visit to successful sit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Radio and news paper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exhibitions and expo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demonstrate new technologi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Ethiopian Agricultural Portal(EAP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With whom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FTC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esearch cent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Univers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Schoo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CGIAR (ICRAF, ILRI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National partners (MoA, BoA, NGO and civic societies)  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Africa  is rising!!!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What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2193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Biophysical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soil degradation status and management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Vegetation cover and diversity (spatial distribution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water availability(Irrigation, ponds, poatble water)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feed sources and availability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livestock resources and productivity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improved crop varieties (fodder, fruit, legume, vegetables, cereals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Diversity and level of intensificatio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Existing infrastructure (FTC, road, market, telecommunication)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?..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151920" y="761760"/>
            <a:ext cx="84582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Socioeconomic Bench marks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livelihood status (vulnerability, food security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ncome sources ( on farm and off farm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house hold size and struc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ducational statu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vailability of labou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cooperatives (saving and credit, consumer associations, multipurpose) and local institution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level of ecological knowledge and innovativenes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y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304920" y="137124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o design and introduce appropriate intervention options;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to identify gaps,barriers,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opportunities and fill the gap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scaling up and out of best local practices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contributes to RC3, 4, 5, 6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for monitoring and evaluati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380520" y="1294920"/>
            <a:ext cx="861084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G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PRA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Participatory resource mapp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Surve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ey informant discussion and intervi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secondary informati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stakeholder analys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KT5 softwar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FEAS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ith whom??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152280" y="1219320"/>
            <a:ext cx="883944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Calibri"/>
              </a:rPr>
              <a:t>Regional research institutes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 /participate in the design, implementation and M and E of the project)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Calibri"/>
              </a:rPr>
              <a:t>Local administration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/ Community mobilization and political backstopping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Calibri"/>
              </a:rPr>
              <a:t>Bureau of Agriculture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 /secondary dat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Calibri"/>
              </a:rPr>
              <a:t>Livestock resource development and health agencies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 /Oromia and Amhara)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Calibri"/>
              </a:rPr>
              <a:t>Cooperatives and microfinance institutions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/facilitate access to credi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Calibri"/>
              </a:rPr>
              <a:t>ILRI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,  ICRAF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Socio economic bench marks ICRAF/Biophysical characterisation and list of existing tech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2438280"/>
            <a:ext cx="64008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Community knowledge exchange groups (CKEGs</a:t>
            </a:r>
            <a:r>
              <a:rPr b="1" lang="en-GB" sz="3200" spc="-1" strike="noStrike">
                <a:solidFill>
                  <a:srgbClr val="898989"/>
                </a:solidFill>
                <a:latin typeface="Calibri"/>
              </a:rPr>
              <a:t>)</a:t>
            </a: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What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c00000"/>
                </a:solidFill>
                <a:latin typeface="Calibri"/>
              </a:rPr>
              <a:t>Identify, characterise,  capacitate  existing community institutions (formal and informal)- Gender and age based organisations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; Development groups (men, women , youth); Farmers association community leaders and elder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c00000"/>
                </a:solidFill>
                <a:latin typeface="Calibri"/>
              </a:rPr>
              <a:t>Establish CKEGs as appropriate Farmers research  extension groups community based breeding scheme (Oromia and South reg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Why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o share and disseminate knowledge, skill  lessons, opportunities and challenge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o plan interventio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scaling up and out best bet indigenous and exogenous tec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o introduce demonstrate appropriate technologie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contribution to RC 3, 4, 5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3T19:09:01Z</dcterms:created>
  <dc:creator>Asrat</dc:creator>
  <dc:description/>
  <dc:language>en-US</dc:language>
  <cp:lastModifiedBy>Asrat</cp:lastModifiedBy>
  <dcterms:modified xsi:type="dcterms:W3CDTF">2013-02-14T05:59:33Z</dcterms:modified>
  <cp:revision>4</cp:revision>
  <dc:subject/>
  <dc:title>Bio-physical and socio-economic benchmarks</dc:title>
</cp:coreProperties>
</file>